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8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1-</a:t>
            </a:r>
            <a:fld id="{AEA0DD6F-3828-4E9B-A90D-2E55CEBC5890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PB03_CA_Book_Cover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" descr="AW_Jen_Bittinger_ColAlgGM_4e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90720" y="213372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a polynomial function is continuous and smooth.  The domain of a polynomial function is the set of all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Leading-Term Tes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6" name="Picture 5" descr="03_248a"/>
          <p:cNvPicPr/>
          <p:nvPr/>
        </p:nvPicPr>
        <p:blipFill>
          <a:blip r:embed="rId1"/>
          <a:stretch/>
        </p:blipFill>
        <p:spPr>
          <a:xfrm>
            <a:off x="990720" y="1066680"/>
            <a:ext cx="66294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leading term-test, match each of the following functions with one of the graphs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 which fo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1447920" y="3429000"/>
          <a:ext cx="253188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429000"/>
                    <a:ext cx="2531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4876920" y="3429000"/>
          <a:ext cx="318132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429000"/>
                    <a:ext cx="31813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7"/>
          <p:cNvGraphicFramePr/>
          <p:nvPr/>
        </p:nvGraphicFramePr>
        <p:xfrm>
          <a:off x="1447920" y="4419720"/>
          <a:ext cx="22399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419720"/>
                    <a:ext cx="22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8"/>
          <p:cNvGraphicFramePr/>
          <p:nvPr/>
        </p:nvGraphicFramePr>
        <p:xfrm>
          <a:off x="4876920" y="4419720"/>
          <a:ext cx="268740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419720"/>
                    <a:ext cx="26874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62" name="Picture 7" descr="03_248b"/>
          <p:cNvPicPr/>
          <p:nvPr/>
        </p:nvPicPr>
        <p:blipFill>
          <a:blip r:embed="rId1"/>
          <a:stretch/>
        </p:blipFill>
        <p:spPr>
          <a:xfrm>
            <a:off x="1828800" y="1143000"/>
            <a:ext cx="54482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65" name="Rectangle 3"/>
          <p:cNvGrpSpPr/>
          <p:nvPr/>
        </p:nvGrpSpPr>
        <p:grpSpPr>
          <a:xfrm>
            <a:off x="990720" y="1295280"/>
            <a:ext cx="7467120" cy="4530600"/>
            <a:chOff x="990720" y="1295280"/>
            <a:chExt cx="7467120" cy="4530600"/>
          </a:xfrm>
        </p:grpSpPr>
        <p:sp>
          <p:nvSpPr>
            <p:cNvPr id="166" name="Rectangle 4"/>
            <p:cNvSpPr/>
            <p:nvPr/>
          </p:nvSpPr>
          <p:spPr>
            <a:xfrm>
              <a:off x="6590880" y="492012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724280" y="492012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857680" y="492012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990720" y="492012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)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6590880" y="40136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4724280" y="40136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2857680" y="40136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990720" y="40136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590880" y="310752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4724280" y="310752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857680" y="310752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990720" y="310752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)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6590880" y="22010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4724280" y="22010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57680" y="2201040"/>
              <a:ext cx="1866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990720" y="2201040"/>
              <a:ext cx="186696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90880" y="129528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4724280" y="129528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 of Leading Coef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2857680" y="1295280"/>
              <a:ext cx="1866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gree of Leading T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990720" y="1295280"/>
              <a:ext cx="186696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ding 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4"/>
            <p:cNvSpPr/>
            <p:nvPr/>
          </p:nvSpPr>
          <p:spPr>
            <a:xfrm>
              <a:off x="990720" y="1295280"/>
              <a:ext cx="7467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5"/>
            <p:cNvSpPr/>
            <p:nvPr/>
          </p:nvSpPr>
          <p:spPr>
            <a:xfrm>
              <a:off x="990720" y="220104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>
              <a:off x="990720" y="310752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>
              <a:off x="990720" y="401364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8"/>
            <p:cNvSpPr/>
            <p:nvPr/>
          </p:nvSpPr>
          <p:spPr>
            <a:xfrm>
              <a:off x="990720" y="4920120"/>
              <a:ext cx="74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9"/>
            <p:cNvSpPr/>
            <p:nvPr/>
          </p:nvSpPr>
          <p:spPr>
            <a:xfrm>
              <a:off x="990720" y="5825880"/>
              <a:ext cx="7467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0"/>
            <p:cNvSpPr/>
            <p:nvPr/>
          </p:nvSpPr>
          <p:spPr>
            <a:xfrm>
              <a:off x="990720" y="1295280"/>
              <a:ext cx="0" cy="45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>
              <a:off x="28576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47242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3"/>
            <p:cNvSpPr/>
            <p:nvPr/>
          </p:nvSpPr>
          <p:spPr>
            <a:xfrm>
              <a:off x="6590880" y="1295280"/>
              <a:ext cx="0" cy="45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8457840" y="1295280"/>
              <a:ext cx="0" cy="453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9" name="Picture 3" descr="03_248b"/>
          <p:cNvPicPr/>
          <p:nvPr/>
        </p:nvPicPr>
        <p:blipFill>
          <a:blip r:embed="rId1"/>
          <a:stretch/>
        </p:blipFill>
        <p:spPr>
          <a:xfrm>
            <a:off x="1828800" y="1143000"/>
            <a:ext cx="5448240" cy="48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4"/>
          <p:cNvGraphicFramePr/>
          <p:nvPr/>
        </p:nvGraphicFramePr>
        <p:xfrm>
          <a:off x="5410080" y="6019920"/>
          <a:ext cx="2532240" cy="42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019920"/>
                    <a:ext cx="25322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5334120" y="3352680"/>
          <a:ext cx="318132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3352680"/>
                    <a:ext cx="31813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209680" y="3276720"/>
          <a:ext cx="2239920" cy="45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3276720"/>
                    <a:ext cx="22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1905120" y="6019920"/>
          <a:ext cx="2687400" cy="42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5120" y="6019920"/>
                    <a:ext cx="26874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inding Zeros of Factored Polynomi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al zero of a function (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), then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 of the graph of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zero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2590920" y="3505320"/>
          <a:ext cx="4390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390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inding Zeros of Factored Polynomial Functions continued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, we use the principle of zero produc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 =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graph on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ven and Odd Multiplici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s a factor of a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factor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dd, then the graph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, then the graph is tangent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e factor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3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 to determine the zeros. We use the principle of zero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057400" y="3733920"/>
          <a:ext cx="4898880" cy="26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89888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1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medical student texting.JPG"/>
          <p:cNvPicPr/>
          <p:nvPr/>
        </p:nvPicPr>
        <p:blipFill>
          <a:blip r:embed="rId1"/>
          <a:stretch/>
        </p:blipFill>
        <p:spPr>
          <a:xfrm>
            <a:off x="2895480" y="2346480"/>
            <a:ext cx="3645000" cy="4511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609480" y="762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edical academy students get away with texting in cla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Real Zeros on a Calcul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0.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0.3x +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 the zeros to three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Use a graphing calculator to create a graph.  Look for points where the graph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 We use th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 to find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zeros are approximately –1.164, 1,142, and 7.52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2666880" y="3809880"/>
            <a:ext cx="2438640" cy="1905120"/>
          </a:xfrm>
          <a:prstGeom prst="roundRect">
            <a:avLst>
              <a:gd name="adj" fmla="val 16667"/>
            </a:avLst>
          </a:prstGeom>
          <a:solidFill>
            <a:srgbClr val="ffff99">
              <a:alpha val="55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666880" y="46483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380988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3429000" y="3886200"/>
            <a:ext cx="1447920" cy="1828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12" h="1088">
                <a:moveTo>
                  <a:pt x="0" y="1008"/>
                </a:moveTo>
                <a:cubicBezTo>
                  <a:pt x="52" y="776"/>
                  <a:pt x="104" y="544"/>
                  <a:pt x="144" y="432"/>
                </a:cubicBezTo>
                <a:cubicBezTo>
                  <a:pt x="184" y="320"/>
                  <a:pt x="208" y="336"/>
                  <a:pt x="240" y="336"/>
                </a:cubicBezTo>
                <a:cubicBezTo>
                  <a:pt x="272" y="336"/>
                  <a:pt x="280" y="336"/>
                  <a:pt x="336" y="432"/>
                </a:cubicBezTo>
                <a:cubicBezTo>
                  <a:pt x="392" y="528"/>
                  <a:pt x="512" y="816"/>
                  <a:pt x="576" y="912"/>
                </a:cubicBezTo>
                <a:cubicBezTo>
                  <a:pt x="640" y="1008"/>
                  <a:pt x="672" y="1088"/>
                  <a:pt x="720" y="1008"/>
                </a:cubicBezTo>
                <a:cubicBezTo>
                  <a:pt x="768" y="928"/>
                  <a:pt x="832" y="600"/>
                  <a:pt x="864" y="432"/>
                </a:cubicBezTo>
                <a:cubicBezTo>
                  <a:pt x="896" y="264"/>
                  <a:pt x="904" y="132"/>
                  <a:pt x="91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1337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02920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724280" y="4648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3962520" y="4648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3581280" y="4648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rmine the leading term, the leading coefficient, and the degree of the polynomial.  Then classify the polynomial function as constant, linear, quadratic, cubic, or quartic.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Content Placeholder 4"/>
              <p:cNvSpPr txBox="1"/>
              <p:nvPr/>
            </p:nvSpPr>
            <p:spPr>
              <a:xfrm>
                <a:off x="1371600" y="1968480"/>
                <a:ext cx="462456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d the zeros of the polynomial function and state the multiplicity of each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Content Placeholder 4"/>
              <p:cNvSpPr txBox="1"/>
              <p:nvPr/>
            </p:nvSpPr>
            <p:spPr>
              <a:xfrm>
                <a:off x="1295280" y="1676520"/>
                <a:ext cx="52293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Content Placeholder 4"/>
              <p:cNvSpPr txBox="1"/>
              <p:nvPr/>
            </p:nvSpPr>
            <p:spPr>
              <a:xfrm>
                <a:off x="1676520" y="3227400"/>
                <a:ext cx="609588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Content Placeholder 4"/>
              <p:cNvSpPr txBox="1"/>
              <p:nvPr/>
            </p:nvSpPr>
            <p:spPr>
              <a:xfrm>
                <a:off x="1600200" y="3387600"/>
                <a:ext cx="60958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ing a graphing calculator, find the real zeros of the function.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Content Placeholder 4"/>
              <p:cNvSpPr txBox="1"/>
              <p:nvPr/>
            </p:nvSpPr>
            <p:spPr>
              <a:xfrm>
                <a:off x="1371600" y="1905120"/>
                <a:ext cx="719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1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s and Model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behavior of the graph of a polynomial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using the leading-term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 polynomial functions and find the zero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multiplic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raphing calculator to graph a polynom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nd find its real-numb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oeffici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 -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al numbers and the exponents are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359000" y="2073240"/>
          <a:ext cx="581328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073240"/>
                    <a:ext cx="5813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Rectangle 5"/>
          <p:cNvGrpSpPr/>
          <p:nvPr/>
        </p:nvGrpSpPr>
        <p:grpSpPr>
          <a:xfrm>
            <a:off x="1060560" y="3809880"/>
            <a:ext cx="7702560" cy="2462040"/>
            <a:chOff x="1060560" y="3809880"/>
            <a:chExt cx="7702560" cy="2462040"/>
          </a:xfrm>
        </p:grpSpPr>
        <p:sp>
          <p:nvSpPr>
            <p:cNvPr id="100" name="Rectangle 6"/>
            <p:cNvSpPr/>
            <p:nvPr/>
          </p:nvSpPr>
          <p:spPr>
            <a:xfrm>
              <a:off x="6195600" y="587664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3.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0.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3628080" y="587664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060560" y="587664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r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6195600" y="548136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3628080" y="548136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1060560" y="548136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b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6195600" y="508608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628080" y="508608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060560" y="508608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dra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6195600" y="469080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628080" y="469080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1060560" y="469080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6195600" y="429552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628080" y="4295520"/>
              <a:ext cx="2567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1060560" y="4295520"/>
              <a:ext cx="2567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6195600" y="3809880"/>
              <a:ext cx="256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3628080" y="3809880"/>
              <a:ext cx="256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g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1060560" y="3809880"/>
              <a:ext cx="2567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ynomial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1060560" y="3809880"/>
              <a:ext cx="770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1060560" y="429552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>
              <a:off x="1060560" y="469080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>
              <a:off x="1060560" y="508608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>
              <a:off x="1060560" y="6271920"/>
              <a:ext cx="770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>
              <a:off x="1060560" y="3809880"/>
              <a:ext cx="0" cy="2462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>
              <a:off x="3628080" y="3809880"/>
              <a:ext cx="0" cy="24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>
              <a:off x="6195600" y="3809880"/>
              <a:ext cx="0" cy="24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8763120" y="3809880"/>
              <a:ext cx="0" cy="2462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1060560" y="548136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>
              <a:off x="1060560" y="5876640"/>
              <a:ext cx="770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Quadratic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1" name="Picture 7" descr="03_245a"/>
          <p:cNvPicPr/>
          <p:nvPr/>
        </p:nvPicPr>
        <p:blipFill>
          <a:blip r:embed="rId1"/>
          <a:stretch/>
        </p:blipFill>
        <p:spPr>
          <a:xfrm>
            <a:off x="1066680" y="1600200"/>
            <a:ext cx="74678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ubic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4" name="Picture 7" descr="03_245b"/>
          <p:cNvPicPr/>
          <p:nvPr/>
        </p:nvPicPr>
        <p:blipFill>
          <a:blip r:embed="rId1"/>
          <a:stretch/>
        </p:blipFill>
        <p:spPr>
          <a:xfrm>
            <a:off x="1066680" y="1600200"/>
            <a:ext cx="7431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 of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37" name="Picture 6" descr="03_246_1"/>
          <p:cNvPicPr/>
          <p:nvPr/>
        </p:nvPicPr>
        <p:blipFill>
          <a:blip r:embed="rId1"/>
          <a:stretch/>
        </p:blipFill>
        <p:spPr>
          <a:xfrm>
            <a:off x="2286000" y="1371600"/>
            <a:ext cx="455292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xamples of Nonpolynomial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40" name="Picture 6" descr="03_246_2"/>
          <p:cNvPicPr/>
          <p:nvPr/>
        </p:nvPicPr>
        <p:blipFill>
          <a:blip r:embed="rId1"/>
          <a:stretch/>
        </p:blipFill>
        <p:spPr>
          <a:xfrm>
            <a:off x="1981080" y="1295280"/>
            <a:ext cx="5448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10-15T16:06:49Z</dcterms:modified>
  <cp:revision>197</cp:revision>
  <dc:subject/>
  <dc:title>No Slide Title</dc:title>
</cp:coreProperties>
</file>